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5840-DCBC-494E-80B8-C802EEF0C1A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39F8-F6F4-425C-9D90-633DBD54CA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DAFB-369C-427B-A8EB-64A1A2F050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B589-55AF-44D0-9382-7C326C85BF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B7F6-56DB-4570-8534-7682D8DECD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94C1-DE1C-4C4D-AFE3-7368619E61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50D7-06EC-4E00-9547-83A3F548E9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6418-3D1C-490E-9C69-CBE4C6F362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838F-0E23-45E1-9671-D6FB3373BB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5FA9-525C-42DC-812B-8D080B4AEC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F13E7-2679-4BFF-B7CD-4E8F589A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BEA43-9633-4BE4-83CA-4405201D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2053E-DCA6-429F-9748-8B2C64C9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58EEA-01EE-4EFE-A04E-01069F9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96BC1-F8E4-4D62-A6E4-59365C5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4A55-DCA0-4B00-87B9-B106BA9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98C70-15D2-418E-AFFE-F12FA5B5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2B235-8CB2-4D46-85F1-395F9246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FED9A-9F78-44F9-B7D3-72139F4F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B6B48-698B-4162-8FF0-A28D6261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EB9C-76C2-46DC-8D61-A487156F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B969-D574-4917-9492-DC6A80BE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60773-AD90-4C15-BFE8-44ED1D05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72D42-11F8-47D8-8DEB-CE1307F4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CF7DC-AA11-4D01-8E83-13D379C5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2DD00-5D28-4BEE-8423-8D41659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2C4EB-663F-450E-857E-1B59FA45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44B83-5DA2-46D9-BC3A-22743543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4966B-C0B6-442F-ADF0-A2ADD1D8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A6AE0-FAD0-4D51-BFE0-69726720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40824-E76C-473C-8742-EA4526C4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1DA99-7E90-4FC4-A9C7-EB4C4DEE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5FF2B-56E8-4E08-B6CC-28348ACA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2B5EA-7EB3-48FD-9670-44F47EE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3A1EB-265F-419C-82DC-20058066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B4220-E687-4C41-9A52-6BFBDE23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F0CC6-0A77-4EFD-B8A8-C49821E4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03B12-06AD-4C89-9EA9-6AFA7FA1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755F1-6CFD-4CA3-A854-06B2609E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0A118-E66F-4627-A805-CFE72743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457-6A10-4F9B-913F-5DBBE636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F2AE1-6BF2-4BA4-ABA6-0D8A7C7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75EB4-9D79-4A90-8DD1-C8125C8E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688F3-E1B4-427D-AB9F-72FA3B60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6373F-1229-48B2-BD6B-0D5CD493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B7A91-B6F0-4C32-8FE7-C9C8363E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7E027-23C0-4461-BC78-46C9DE4F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1CF07-C3BF-436C-BB68-654B5A27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D89A0-A5DA-45E2-8DD8-DE87C4A1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CB62A-FD8E-46F7-A6F4-8B89620D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DC35A-6F0F-4793-98E5-C810945C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21A-D05E-4078-90DC-7BE2609F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F88F1-831F-4B1B-A33F-5E2372E4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C1E17-1561-445F-BD35-130EEA4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E0645-F0CA-439E-9494-25B60D9F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ADE59-4069-4839-80E7-20041ADE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A5CB4-051A-423F-B1BB-C64B4904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25AFA-12D6-4EAD-A283-5012CA57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6B232-B50E-40E9-8BF2-3604DA23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1FF4C-6DD5-435B-B7C6-9C878676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83E69-0D5A-4786-BCE9-7A4C2214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5C5C9-6455-4893-B602-C3E5FB5C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ED4-CD2E-4DE7-A3F0-B9C4092B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0F6A8-C423-4342-8483-F28ED119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AB40C-78E8-4BC7-B56A-CE10B4D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626F7-132D-4DC9-A2E4-FBD0D8C5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59364-9957-4E96-A5AA-E5D3ABE2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6B6E7-EBC5-41C4-8780-89D4BB5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7726D-5DA4-44B9-947E-C1F78A2B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3F3E3-42DD-41C6-A718-49FE3E00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62CCB-9630-4EBC-AF0C-2AE0833C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3046C-8484-4FFF-AE74-019C9D94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09DCA-5A8F-451F-BB83-02048BFC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4A0-0976-4D80-87D2-A5242C4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8C68D-6624-4E62-ADEF-D88722D2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D8BB8-9B5C-4D48-99F8-BA246B62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E7C7D-3CF0-467C-AAEC-A04C414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4B024-F49B-43BC-BBED-A93B61D6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767B5-61A8-429F-B7FB-C976E7E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289C6-EE15-4C06-A715-822D73E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35E9F-DF89-4096-B10E-9064E467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49C12-5C22-4234-B383-9315889D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A0902-6244-4698-A0C0-B43F65D4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5AC84-3BEA-4678-A7CF-652E009C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AA4-1834-47FB-8C3C-CC269C5A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51A96-5A01-4BDD-ABCB-8D138B22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849E7-0933-44FA-99A3-34C016D3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11BC2-833A-407E-B304-3724F93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930AE-F987-4D98-AC4C-BC7792A4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B6254-58BA-4547-9718-43CD3E09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0C36C-9508-4A87-8128-CAB87001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AF8A8-D2C9-461E-93A2-E57ECF5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13D07-531D-44BC-8156-8C6045F4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4F2E5-3A59-4557-863C-D52E5B69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18F07-9D4E-45D7-8756-8AF62267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B59-27EA-45C6-9B12-233A96A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F52FD-18B6-4BA6-817D-2D414FC4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F5EC2-5CC1-46D3-A8AF-590D40DC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75017-DB1C-4169-889C-03D22B78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6A1FE-71D7-48F8-82D6-5CB26A04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5EE3D-0B6B-438B-96C2-63871A75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76793-47B3-4CEE-9FDA-3AFE375F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AA643-B60D-4F71-9BCB-3E0D71E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94A07-C39D-4B3C-92BF-FA953D3E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45C36-BAB5-4C29-8DD5-881D22F8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9CD40-F40C-434B-B7AA-D180F67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C5F-552D-4F0D-A90C-B822DD19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D097C-C9E0-4B5E-BB2F-88F93683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3B87F-1274-42EA-8323-BBBF079F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0D79F-EAC9-4211-B8B5-D0332A33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270-1638-4372-8A63-2EF0C05A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DA1-63F0-46FE-812A-CA0A8889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8AC-9932-4A33-8C0E-D79F2B44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A4A-B455-45E4-A4E9-69C8A95F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B32-B669-43FF-ADA0-F2CF8E94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097F-A9D0-45C6-8E1E-11A80865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B9E5-A720-4EE5-896F-712CD6A3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B8E8-563C-4A33-9823-2EBC0784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7CE9-9B41-4910-B95F-D1213E22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1019-0FA9-43A6-BB6B-E265F4FF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6AB8-88D0-4D90-8DBE-A7E75E65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6222-DB66-43EE-856C-1538CAA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9664-E7D2-4A79-9979-6271F7EF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00F3-8B6B-4F8A-A254-913003E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8781-C996-4A96-A9A9-1C2543CF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25D2-5950-4F05-A296-2ECA8883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CF96-F514-43F8-9C5D-19C0A9D9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7292-69F6-4721-B1DB-92DE0552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8DC4-F754-4AFA-81EC-A19A403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18AA-4433-4E2E-AE76-82EF236B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520A-F3BF-4B4E-A421-435A9FD8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19FD-B15E-41F4-AB35-0F8B7F42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1C60-127E-4EC4-85D8-D7C83DF4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FC78-ADF9-4198-90F0-9DEC5F0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96D6-9FEC-404E-B5D9-EC4F3456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119A5-0048-49CA-B1C4-4E54F1E6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722D-9D35-4CCA-B80F-5DC3137C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3400B-DEF8-40FD-B086-440354CA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2BE3-BD39-460F-9013-D53A74A6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6088-532D-446C-9EDF-C06ADC6C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3F53-9396-4969-9900-A5F90ED5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F8EE-8973-42CE-B245-747264A4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C8A3-33F6-4496-8697-3DD0CF5F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F1B6F-5689-4659-B134-B5BC168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56B3-4D78-4AE4-AD1D-29718FFD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A45D-5215-44CD-8674-B1FD5780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5E5D-0D62-43FF-925E-795B7C02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C961-AE4A-4F58-A152-E97BCB6F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1172A-8F07-410B-A3B2-CC8552F1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262E-537C-42A7-BECC-C9DEAB5D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9FAF7-EBA2-412E-8F0C-6CFF32FF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BD174-7BB8-4A5D-A39B-C656330A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17A8-B0F4-45C7-B221-BA1FA3C9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BAFF6-6CAC-4C3B-937C-FD672059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4A526-ED8D-4087-9CEB-C16AB074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496D-D593-4468-83D7-E22D6035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248B-89AE-446D-BC73-F0BB12A8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F168-77C9-4D31-B6DE-7018168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951B-1D22-402A-9A5B-F0083757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61434-B772-41C8-9648-83271D37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0CB4D-7D2B-4D5B-B368-1A392F56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1E634-DA42-4C66-B110-EDE0F1C6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02BE1-34F9-4827-99C2-4D86CC2F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4D0EF-6E86-4F70-9945-A0D67DD7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46AB-27CE-45D3-ABE1-A86FDB57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6C1F7-534A-454E-96AB-308144EF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0D5A8-5AF9-4B78-BFCD-E2DE0106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740D-497B-4AF9-9FA9-F6BEC948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6265-7577-4309-92C5-C54E6D4D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A632-3B0C-438D-B52A-7C649FD5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1A92-47B9-4011-9EE1-DA6FBE7F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9E5A9-E531-4256-ADF1-501C281C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1CD14-062C-4615-A10F-4B7480C5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DB8E3-FBE2-41DA-8C55-AF13F8AB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A7F10-BAEC-422A-B077-F6445258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AB80E-255E-40C3-855C-07843DED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EE905-620C-427B-BB3D-2C20F31A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831FA-12D8-4657-8AED-BEC38833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3BC-F634-4273-8866-5162D0175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FB8C-64C1-4F71-B280-9C5A6C09E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C02A-BF91-4588-8405-73C85B17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241-97B5-417C-A506-20D54415B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800C-CDBF-45CD-A837-B22042573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C83B-9C26-48FA-8C71-823C40932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3804-DFFC-4AAB-89CF-B671594FE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2019-1217-4576-8695-17BC390A8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al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71160"/>
            <a:ext cx="53341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5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45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71680" y="888840"/>
            <a:ext cx="85723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126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30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8858-8737-4AC8-93F8-677A8257C838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60FC-FF7F-4175-95A4-2D429F079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8570-3E1B-42BF-B794-1FE1EA4EC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7915-8920-468D-A54A-A4584441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F368-A2B2-4970-B372-54A9CE127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3CA9-2839-4152-8A91-E5C8247CA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alibrati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are-lynx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76" name="Picture 2" descr=""/>
          <p:cNvPicPr/>
          <p:nvPr/>
        </p:nvPicPr>
        <p:blipFill>
          <a:blip r:embed="rId1"/>
          <a:stretch/>
        </p:blipFill>
        <p:spPr>
          <a:xfrm>
            <a:off x="647640" y="1219320"/>
            <a:ext cx="78361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are-lynx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31852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at populations of rabbits and wolves are described by the Lotka-Volterra equations wit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8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0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sured in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initially 40 wolves and 1000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rabbits population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1427760" y="5157720"/>
            <a:ext cx="58089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: prey mortality by pre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b: predation growth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 using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1" descr="Captura de Tela 2016-07-21 às 17.49.57.png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7196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3"/>
          <p:cNvSpPr/>
          <p:nvPr/>
        </p:nvSpPr>
        <p:spPr>
          <a:xfrm>
            <a:off x="0" y="6381720"/>
            <a:ext cx="36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C. Codeço, Population dynamics of Aedes aegypti,vector of Dengue Fe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 using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ing cyc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1141560" y="2565360"/>
            <a:ext cx="208728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3589200" y="2565360"/>
            <a:ext cx="2087640" cy="711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6084720" y="2565360"/>
            <a:ext cx="2087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6037200" y="3860640"/>
            <a:ext cx="20890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8"/>
          <p:cNvSpPr/>
          <p:nvPr/>
        </p:nvSpPr>
        <p:spPr>
          <a:xfrm>
            <a:off x="3589200" y="3860640"/>
            <a:ext cx="20876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"/>
          <p:cNvSpPr/>
          <p:nvPr/>
        </p:nvSpPr>
        <p:spPr>
          <a:xfrm>
            <a:off x="1141560" y="3860640"/>
            <a:ext cx="2087280" cy="711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Straight Arrow Connector 4"/>
          <p:cNvCxnSpPr>
            <a:stCxn id="726" idx="3"/>
            <a:endCxn id="727" idx="1"/>
          </p:cNvCxnSpPr>
          <p:nvPr/>
        </p:nvCxnSpPr>
        <p:spPr>
          <a:xfrm flipV="1">
            <a:off x="3228480" y="2920320"/>
            <a:ext cx="3610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13"/>
          <p:cNvCxnSpPr/>
          <p:nvPr/>
        </p:nvCxnSpPr>
        <p:spPr>
          <a:xfrm flipV="1">
            <a:off x="5676480" y="292356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14"/>
          <p:cNvCxnSpPr/>
          <p:nvPr/>
        </p:nvCxnSpPr>
        <p:spPr>
          <a:xfrm>
            <a:off x="7117920" y="32889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16"/>
          <p:cNvCxnSpPr/>
          <p:nvPr/>
        </p:nvCxnSpPr>
        <p:spPr>
          <a:xfrm flipV="1">
            <a:off x="5676480" y="421560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36" name="Straight Arrow Connector 17"/>
          <p:cNvCxnSpPr/>
          <p:nvPr/>
        </p:nvCxnSpPr>
        <p:spPr>
          <a:xfrm flipV="1">
            <a:off x="3228480" y="421560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37" name="Straight Arrow Connector 18"/>
          <p:cNvCxnSpPr/>
          <p:nvPr/>
        </p:nvCxnSpPr>
        <p:spPr>
          <a:xfrm>
            <a:off x="2220480" y="328464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alibr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rative process of comparing outputs of model with real data and making adju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simulation adju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applied to mode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Rectangle 2"/>
          <p:cNvSpPr/>
          <p:nvPr/>
        </p:nvSpPr>
        <p:spPr>
          <a:xfrm>
            <a:off x="971640" y="3789360"/>
            <a:ext cx="2087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"/>
          <p:cNvSpPr/>
          <p:nvPr/>
        </p:nvSpPr>
        <p:spPr>
          <a:xfrm>
            <a:off x="3419640" y="3789360"/>
            <a:ext cx="2089080" cy="711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5915160" y="3789360"/>
            <a:ext cx="208728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5867280" y="5084640"/>
            <a:ext cx="20894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3419640" y="5084640"/>
            <a:ext cx="20890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971640" y="5084640"/>
            <a:ext cx="2087640" cy="712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"/>
          <p:cNvCxnSpPr>
            <a:stCxn id="740" idx="3"/>
            <a:endCxn id="741" idx="1"/>
          </p:cNvCxnSpPr>
          <p:nvPr/>
        </p:nvCxnSpPr>
        <p:spPr>
          <a:xfrm flipV="1">
            <a:off x="3058920" y="414432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7" name="Straight Arrow Connector 13"/>
          <p:cNvCxnSpPr/>
          <p:nvPr/>
        </p:nvCxnSpPr>
        <p:spPr>
          <a:xfrm flipV="1">
            <a:off x="5508720" y="4149000"/>
            <a:ext cx="3589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8" name="Straight Arrow Connector 14"/>
          <p:cNvCxnSpPr/>
          <p:nvPr/>
        </p:nvCxnSpPr>
        <p:spPr>
          <a:xfrm>
            <a:off x="6948000" y="45129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16"/>
          <p:cNvCxnSpPr/>
          <p:nvPr/>
        </p:nvCxnSpPr>
        <p:spPr>
          <a:xfrm flipV="1">
            <a:off x="5508720" y="5439600"/>
            <a:ext cx="3589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50" name="Straight Arrow Connector 17"/>
          <p:cNvCxnSpPr/>
          <p:nvPr/>
        </p:nvCxnSpPr>
        <p:spPr>
          <a:xfrm flipV="1">
            <a:off x="3058920" y="543960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51" name="Straight Arrow Connector 18"/>
          <p:cNvCxnSpPr/>
          <p:nvPr/>
        </p:nvCxnSpPr>
        <p:spPr>
          <a:xfrm>
            <a:off x="2050560" y="450864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52" name="Elbow Connector 3"/>
          <p:cNvCxnSpPr>
            <a:stCxn id="745" idx="2"/>
            <a:endCxn id="743" idx="2"/>
          </p:cNvCxnSpPr>
          <p:nvPr/>
        </p:nvCxnSpPr>
        <p:spPr>
          <a:xfrm flipH="1" rot="16200000">
            <a:off x="4460040" y="3353040"/>
            <a:ext cx="8640" cy="4896720"/>
          </a:xfrm>
          <a:prstGeom prst="bentConnector3">
            <a:avLst>
              <a:gd name="adj1" fmla="val 282608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alibration and Valid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Picture 1" descr="Captura de Tela 2016-07-21 às 17.49.57.png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71968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3"/>
          <p:cNvSpPr/>
          <p:nvPr/>
        </p:nvSpPr>
        <p:spPr>
          <a:xfrm>
            <a:off x="1374840" y="1484280"/>
            <a:ext cx="5257800" cy="3832200"/>
          </a:xfrm>
          <a:prstGeom prst="rect">
            <a:avLst/>
          </a:prstGeom>
          <a:solidFill>
            <a:srgbClr val="9999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6632640" y="1484280"/>
            <a:ext cx="2116080" cy="3808440"/>
          </a:xfrm>
          <a:prstGeom prst="rect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2771640" y="1341360"/>
            <a:ext cx="316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ib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6588000" y="1484280"/>
            <a:ext cx="3168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 using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61" name="Picture 1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 using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63" name="Picture 1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5292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5"/>
          <p:cNvSpPr/>
          <p:nvPr/>
        </p:nvSpPr>
        <p:spPr>
          <a:xfrm>
            <a:off x="698400" y="2133720"/>
            <a:ext cx="4594320" cy="2592360"/>
          </a:xfrm>
          <a:prstGeom prst="rect">
            <a:avLst/>
          </a:prstGeom>
          <a:solidFill>
            <a:srgbClr val="9999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292720" y="2133720"/>
            <a:ext cx="2217600" cy="2570040"/>
          </a:xfrm>
          <a:prstGeom prst="rect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1692360" y="1982880"/>
            <a:ext cx="3166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ib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5292720" y="1989000"/>
            <a:ext cx="3166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7510320" y="2133720"/>
            <a:ext cx="1440000" cy="2570040"/>
          </a:xfrm>
          <a:prstGeom prst="rect">
            <a:avLst/>
          </a:prstGeom>
          <a:solidFill>
            <a:srgbClr val="0080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 rot="17863800">
            <a:off x="6937560" y="2571480"/>
            <a:ext cx="3166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Goodness-of-fi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 that defines how the result of a simulation matches re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 of squ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5"/>
          <p:cNvGrpSpPr/>
          <p:nvPr/>
        </p:nvGrpSpPr>
        <p:grpSpPr>
          <a:xfrm>
            <a:off x="1763640" y="2852640"/>
            <a:ext cx="1944720" cy="1127160"/>
            <a:chOff x="1763640" y="2852640"/>
            <a:chExt cx="1944720" cy="1127160"/>
          </a:xfrm>
        </p:grpSpPr>
        <p:pic>
          <p:nvPicPr>
            <p:cNvPr id="773" name="Picture 4" descr="Captura de Tela 2016-07-22 às 09.54.54.png"/>
            <p:cNvPicPr/>
            <p:nvPr/>
          </p:nvPicPr>
          <p:blipFill>
            <a:blip r:embed="rId1"/>
            <a:stretch/>
          </p:blipFill>
          <p:spPr>
            <a:xfrm>
              <a:off x="1763640" y="2852640"/>
              <a:ext cx="194472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7" descr="Captura de Tela 2016-07-22 às 09.54.54.png"/>
            <p:cNvPicPr/>
            <p:nvPr/>
          </p:nvPicPr>
          <p:blipFill>
            <a:blip r:embed="rId2"/>
            <a:srcRect l="5896" t="73160" r="90590" b="5537"/>
            <a:stretch/>
          </p:blipFill>
          <p:spPr>
            <a:xfrm>
              <a:off x="3329280" y="3356640"/>
              <a:ext cx="72000" cy="24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Pedro Andrade</cp:lastModifiedBy>
  <cp:lastPrinted>2012-10-26T17:22:49Z</cp:lastPrinted>
  <dcterms:modified xsi:type="dcterms:W3CDTF">2016-07-22T17:51:50Z</dcterms:modified>
  <cp:revision>491</cp:revision>
  <dc:subject/>
  <dc:title>Low-carbon growth in Brazil?</dc:title>
</cp:coreProperties>
</file>